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A54-02A7-46E4-8E81-6982D973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BD7-2E62-46E2-82A5-2A92760D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B7D-0563-4999-9F7E-AC020612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BB6-8E91-476C-B5F0-3FF1330F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5E1-6C68-4EB5-B51E-26EBCCD1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E93-CCFE-47B4-A67D-C487E3DF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436-197A-447D-BC2C-9ADE4C4B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47B-B1D6-40D8-9C7E-2BFAE862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E26-92BC-4979-B836-97D0F963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6C9-CA2D-4FAF-86A4-CE7640D0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619-8B07-4329-A41E-50D0FA8C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913-808F-459D-8B63-0A156000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587A-1A6B-4173-904B-2EB05BE2C531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Start Local Conferenc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U 1993-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e Aka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gazici University, Istanb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U: Signal Processing and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ly established Signal Processing chapter decided to start a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annual conference on Signal Processing an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he conference is Turk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d in the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3 Conference Organizers: A.Enis Cetin, Bulent Sankur, Lale Aka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U 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of ~ $ 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 papers submitted, 40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sessions : speech processing, image processing, computer vision, biomedical signal processing, signal analysis, hardware for signal proces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ence held on Bogazici University ca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U 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by Bilkent University and Bogazici University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 papers submitted; more participation from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 sessions as well as lecture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d speaker: Jan Bie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in Mugla, at an attractive vacation spot, just before MELECON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 SIU Con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U 1995 – Capadocia: organized by 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U 1996 – Antalya: by M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U 1997 – Kusadasi: by Bogazici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U 1998 – Ankara : by Baskent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U 1999 – Ankara: by Bilkent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U 2000 – Antalya: by Istanbul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U 2001 – Cyprus: by E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U 2002 – Pamukkale: by Isik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U 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d in Istanbul, organized by Koc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: Murat Teka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6 papers submitted; 220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arallel lecture sessions, 2 parallel poster s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invited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 and support by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f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ase of academic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Distinguished visitor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registration fee: 30-90 E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social program; attractive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06:27:35Z</dcterms:created>
  <dc:creator>Lale Akarun</dc:creator>
  <dc:description/>
  <dc:language>en-US</dc:language>
  <cp:lastModifiedBy>bilkent</cp:lastModifiedBy>
  <dcterms:modified xsi:type="dcterms:W3CDTF">2003-09-12T17:42:24Z</dcterms:modified>
  <cp:revision>5</cp:revision>
  <dc:subject/>
  <dc:title>How to Start Local Conferences:  SIU 1993-2003</dc:title>
</cp:coreProperties>
</file>