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4A53B-B529-4842-A27F-D5E32EDD2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E9660-2269-40DF-A01F-343A168F4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A3878-1922-48F0-A151-4022E0E7C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54346-596A-48AB-A8B7-E31583992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20420-4725-4D25-B2C3-06580E1F2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01349-4680-46A0-A743-54A1DEB2F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38318-688D-4B4F-97C0-1F3788B3E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FB094-F448-42BD-89A5-9915237C2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24DAB-060B-43E6-BFCF-9DC50C79F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8E4E8-154A-4A06-AADB-2590FFF41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B9CD6-121E-4C39-8AD6-6FA2A0983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31E4C-65A7-46FC-AC56-2CF90D3B9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1E0C7-AFD3-4F1D-B315-59C3D9A8FB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457200" y="6095880"/>
            <a:ext cx="2743200" cy="633600"/>
          </a:xfrm>
          <a:prstGeom prst="rect">
            <a:avLst/>
          </a:prstGeom>
          <a:ln w="0">
            <a:noFill/>
          </a:ln>
        </p:spPr>
      </p:pic>
      <p:pic>
        <p:nvPicPr>
          <p:cNvPr id="6" name="" descr=""/>
          <p:cNvPicPr/>
          <p:nvPr/>
        </p:nvPicPr>
        <p:blipFill>
          <a:blip r:embed="rId3"/>
          <a:stretch/>
        </p:blipFill>
        <p:spPr>
          <a:xfrm>
            <a:off x="7315200" y="6172200"/>
            <a:ext cx="135252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ieee.org/organizations/society/sp/tc.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904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How to Get Involved with the Signal Processing Society</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ich Cox</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ept.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Conference Board</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P Conferences (</a:t>
            </a:r>
            <a:r>
              <a:rPr b="0" lang="en-US" sz="2800" spc="-1" strike="noStrike">
                <a:solidFill>
                  <a:srgbClr val="000000"/>
                </a:solidFill>
                <a:latin typeface="Arial"/>
              </a:rPr>
              <a:t>Rabab Ward, 2003-2005</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Future &amp; Past General Chairs of ICASSP &amp; IC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atives from each of the 10 Technical Committ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B Treasur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P Finances (</a:t>
            </a:r>
            <a:r>
              <a:rPr b="0" lang="en-US" sz="2800" spc="-1" strike="noStrike">
                <a:solidFill>
                  <a:srgbClr val="000000"/>
                </a:solidFill>
                <a:latin typeface="Arial"/>
              </a:rPr>
              <a:t>V. John Mathew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Publications Boar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 Publications (Arye Nehora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s-in-Chief from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ans. Signal Processing </a:t>
            </a:r>
            <a:r>
              <a:rPr b="0" lang="en-US" sz="2000" spc="-1" strike="noStrike">
                <a:solidFill>
                  <a:srgbClr val="000000"/>
                </a:solidFill>
                <a:latin typeface="Arial"/>
              </a:rPr>
              <a:t>(Ali Sayed)</a:t>
            </a:r>
            <a:r>
              <a:rPr b="0" i="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ans. Image Processing</a:t>
            </a:r>
            <a:r>
              <a:rPr b="0" lang="en-US" sz="2000" spc="-1" strike="noStrike">
                <a:solidFill>
                  <a:srgbClr val="000000"/>
                </a:solidFill>
                <a:latin typeface="Arial"/>
              </a:rPr>
              <a:t> (Jelena Kovacevic)</a:t>
            </a:r>
            <a:r>
              <a:rPr b="0" i="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ans. Speech &amp; Audio Processing </a:t>
            </a:r>
            <a:r>
              <a:rPr b="0" lang="en-US" sz="2000" spc="-1" strike="noStrike">
                <a:solidFill>
                  <a:srgbClr val="000000"/>
                </a:solidFill>
                <a:latin typeface="Arial"/>
              </a:rPr>
              <a:t>(Isabel Trancoso)</a:t>
            </a:r>
            <a:r>
              <a:rPr b="0" i="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P Magazine</a:t>
            </a:r>
            <a:r>
              <a:rPr b="0" lang="en-US" sz="2000" spc="-1" strike="noStrike">
                <a:solidFill>
                  <a:srgbClr val="000000"/>
                </a:solidFill>
                <a:latin typeface="Arial"/>
              </a:rPr>
              <a:t> (K. J. Ray Liu)</a:t>
            </a:r>
            <a:r>
              <a:rPr b="0" i="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gnal Processing Letters</a:t>
            </a:r>
            <a:r>
              <a:rPr b="0" lang="en-US" sz="2000" spc="-1" strike="noStrike">
                <a:solidFill>
                  <a:srgbClr val="000000"/>
                </a:solidFill>
                <a:latin typeface="Arial"/>
              </a:rPr>
              <a:t> (Alle-Jan van der Vee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 Finance (V. John Mathew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le for making publication budgets, appointing new EICs, approving special issues, et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each publication has an Editorial Board consisting of the EIC and the Associate Editor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s are appointed by the EIC of the respective pub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echnical Committe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11 Technical Committees: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dio &amp; Electroacoustics (Michael Brandstei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amp; Implementation of Signal Processing Systems (Magdi Bayoumi)</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amp; Multidimensional Signal Processing (Thrasos Pappa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media Signal Processing (John Sorense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ral Networks for Signal Processing (Tulay Adali)</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or Array &amp; Multichannel (Kon Max Wo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 Processing Education (Thad B. Welc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 Processing for Communications (Alle-Jan van der Vee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 Processing Theory &amp; Methods (Mats Viber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ech Processing (Michael Picheny)</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s are responsible for organizing the reviews of papers submitted to their respective areas for ICASSP and ICI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they are responsible for organizing workshops in their respective are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here is the Standing Committee on Industry DSP Technology (Jennifer Trelewic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Opportunities for Participat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orial Boa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review for any of our publica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olunteer your services, go to </a:t>
            </a:r>
            <a:r>
              <a:rPr b="0" lang="en-US" sz="2400" spc="-1" strike="noStrike">
                <a:solidFill>
                  <a:srgbClr val="000000"/>
                </a:solidFill>
                <a:latin typeface="Arial"/>
              </a:rPr>
              <a:t>http://www.ieee.org/organizations/society/sp/pub.html and then follow the links to one of our publications to find the names (and links) to its AEs and EI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yourself known to the appropriate folks and volunteer to help as a reviewer to establish your reputation, or volunteer your name as a potential AE to the E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Opportunities for Participatio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Committee Membershi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you active in a particular technical are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publish pap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attend our conferences or workshop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o know members of the relevant TC</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a:t>
            </a:r>
            <a:r>
              <a:rPr b="0" lang="en-US" sz="1800" spc="-1" strike="noStrike" u="sng">
                <a:solidFill>
                  <a:srgbClr val="009999"/>
                </a:solidFill>
                <a:uFillTx/>
                <a:latin typeface="Arial"/>
                <a:hlinkClick r:id="rId1"/>
              </a:rPr>
              <a:t>http://www.ieee.org/organizations/society/sp/tc.html</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relevant TC to learn who its members are and volunteer your services</a:t>
            </a:r>
            <a:endParaRPr b="0" lang="en-US" sz="18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ome involved in a Workshop</a:t>
            </a:r>
            <a:endParaRPr b="0" lang="en-US" sz="22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http://www.ieee.org/organizations/society/sp/SPSConf.html to find our calendar of meetings, then follow the link to a particular workshop – do you know any of the organizers? Volunteer your servic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want to help organize a workshop? Contact these same folks as well as the TC Ch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Opportunities for Participat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Chapter Leve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dvantage of the Distinguished Lecturer Program</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eee.org/organizations/society/sp/dlprogram.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year SPS appoints six new DLs to give talks at Chapt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year’s lecturers are</a:t>
            </a:r>
            <a:r>
              <a:rPr b="0" lang="en-US" sz="2000" spc="-1" strike="noStrike">
                <a:solidFill>
                  <a:srgbClr val="cc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 Moeness Amin – Villanova U.</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 Andreas Antoniou – University of Victoria, Victoria, B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James D. Johnston – Microsoft Research</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 Peter Vary – RWTH, Aachen, Germany</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 Mike Zoltowski – Purdue University</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possible to have 50% of the expense covered by DL support and the other 50% through Chapter support</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t>
            </a:r>
            <a:r>
              <a:rPr b="0" lang="en-US" sz="2000" spc="-1" strike="noStrike">
                <a:solidFill>
                  <a:srgbClr val="000000"/>
                </a:solidFill>
                <a:latin typeface="Arial"/>
              </a:rPr>
              <a:t> - I don’t know why there are only 5 this y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Outline</a:t>
            </a:r>
            <a:endParaRPr b="0" lang="en-US" sz="4400" spc="-1" strike="noStrike">
              <a:solidFill>
                <a:srgbClr val="000000"/>
              </a:solidFill>
              <a:latin typeface="Arial"/>
            </a:endParaRPr>
          </a:p>
        </p:txBody>
      </p:sp>
      <p:sp>
        <p:nvSpPr>
          <p:cNvPr id="46"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 of the IE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 of the Signal Processing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rtunities to become invol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nd Answers through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IEEE Structure</a:t>
            </a:r>
            <a:endParaRPr b="0" lang="en-US" sz="4400" spc="-1" strike="noStrike">
              <a:solidFill>
                <a:srgbClr val="000000"/>
              </a:solidFill>
              <a:latin typeface="Arial"/>
            </a:endParaRPr>
          </a:p>
        </p:txBody>
      </p:sp>
      <p:sp>
        <p:nvSpPr>
          <p:cNvPr id="48"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Activit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 technical societies and counci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Activities Board is the governing bod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le for all technical publications except </a:t>
            </a:r>
            <a:r>
              <a:rPr b="0" i="1" lang="en-US" sz="2000" spc="-1" strike="noStrike">
                <a:solidFill>
                  <a:srgbClr val="000000"/>
                </a:solidFill>
                <a:latin typeface="Arial"/>
              </a:rPr>
              <a:t>Spectrum</a:t>
            </a:r>
            <a:r>
              <a:rPr b="0" lang="en-US" sz="2000" spc="-1" strike="noStrike">
                <a:solidFill>
                  <a:srgbClr val="000000"/>
                </a:solidFill>
                <a:latin typeface="Arial"/>
              </a:rPr>
              <a:t> and </a:t>
            </a:r>
            <a:r>
              <a:rPr b="0" i="1" lang="en-US" sz="2000" spc="-1" strike="noStrike">
                <a:solidFill>
                  <a:srgbClr val="000000"/>
                </a:solidFill>
                <a:latin typeface="Arial"/>
              </a:rPr>
              <a:t>Proceedings of the IEE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Activit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regions in total, 5 in USA, 1 in Canad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we are in Region 8 (Europe, Middle East &amp; Afric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Activities Board is the governing bod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each Region there are Sec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ters have at least two parents: a section and at least one or more Societi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IEEE Governance</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ve Director – Dan Sene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Board of Director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directors from TAB + </a:t>
            </a:r>
            <a:r>
              <a:rPr b="0" lang="en-US" sz="2000" spc="-1" strike="noStrike">
                <a:solidFill>
                  <a:srgbClr val="6600ff"/>
                </a:solidFill>
                <a:latin typeface="Arial"/>
              </a:rPr>
              <a:t>VP TAB</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directors from RAB + </a:t>
            </a:r>
            <a:r>
              <a:rPr b="0" lang="en-US" sz="2000" spc="-1" strike="noStrike">
                <a:solidFill>
                  <a:srgbClr val="6600ff"/>
                </a:solidFill>
                <a:latin typeface="Arial"/>
              </a:rPr>
              <a:t>VP RAB</a:t>
            </a:r>
            <a:endParaRPr b="0" lang="en-US" sz="2000" spc="-1" strike="noStrike">
              <a:solidFill>
                <a:srgbClr val="000000"/>
              </a:solidFill>
              <a:latin typeface="Arial"/>
            </a:endParaRPr>
          </a:p>
          <a:p>
            <a:pPr lvl="1" marL="743040" indent="-285840">
              <a:lnSpc>
                <a:spcPct val="80000"/>
              </a:lnSpc>
              <a:spcBef>
                <a:spcPts val="4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VP Standards</a:t>
            </a:r>
            <a:endParaRPr b="0" lang="en-US" sz="2000" spc="-1" strike="noStrike">
              <a:solidFill>
                <a:srgbClr val="000000"/>
              </a:solidFill>
              <a:latin typeface="Arial"/>
            </a:endParaRPr>
          </a:p>
          <a:p>
            <a:pPr lvl="1" marL="743040" indent="-285840">
              <a:lnSpc>
                <a:spcPct val="8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President, Past President &amp; President-Elec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surer &amp; Secretar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s: </a:t>
            </a:r>
            <a:r>
              <a:rPr b="0" lang="en-US" sz="2000" spc="-1" strike="noStrike">
                <a:solidFill>
                  <a:srgbClr val="6600ff"/>
                </a:solidFill>
                <a:latin typeface="Arial"/>
              </a:rPr>
              <a:t>blue = 1 year</a:t>
            </a:r>
            <a:r>
              <a:rPr b="0" lang="en-US" sz="2000" spc="-1" strike="noStrike">
                <a:solidFill>
                  <a:srgbClr val="000000"/>
                </a:solidFill>
                <a:latin typeface="Arial"/>
              </a:rPr>
              <a:t>, black = 2 years, </a:t>
            </a:r>
            <a:r>
              <a:rPr b="0" lang="en-US" sz="2000" spc="-1" strike="noStrike">
                <a:solidFill>
                  <a:srgbClr val="33cc33"/>
                </a:solidFill>
                <a:latin typeface="Arial"/>
              </a:rPr>
              <a:t>green = 3</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surer &amp; Secretary appointed, VP RAB elected by RAB, all others elected by IEEE member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ExCom (Executive Committee) is a subset of the Board that is empowered to act on the Board’s behalf and is responsible for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FINCOM (Finance Committee) is a subset of the Board responsible for all aspects of IEEE’s fina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AB Governanc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P Technical Activities (Leah Jamieson) is responsible for presiding over TAB meetings and generally running TAB</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 consists of VP TA, VP TA-Elect, Past VP TA, Secretary (Mary Ward-Callan) and Treasurer, the 10 TAB Directors, and the ~40 Society and Council Presid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 sets policy and is responsible for all technical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SPS Field of Interest &amp; Miss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ff"/>
                </a:solidFill>
                <a:latin typeface="Arial"/>
              </a:rPr>
              <a:t>Field of Interes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gnal Processing Society's areas of interest are the theory and application of filtering, coding, transmitting, estimating, detecting, analyzing, recognizing, synthesizing, recording, and reproducing signals by digital or analog devices or techniques. The term </a:t>
            </a:r>
            <a:r>
              <a:rPr b="0" i="1" lang="en-US" sz="2000" spc="-1" strike="noStrike">
                <a:solidFill>
                  <a:srgbClr val="000000"/>
                </a:solidFill>
                <a:latin typeface="Arial"/>
              </a:rPr>
              <a:t>signal</a:t>
            </a:r>
            <a:r>
              <a:rPr b="0" lang="en-US" sz="2000" spc="-1" strike="noStrike">
                <a:solidFill>
                  <a:srgbClr val="000000"/>
                </a:solidFill>
                <a:latin typeface="Arial"/>
              </a:rPr>
              <a:t> includes audio, video, speech, image, communication, geophysical, sonar, radar, medical, musical, and other signals. </a:t>
            </a:r>
            <a:endParaRPr b="0" lang="en-US" sz="20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Processing Society Constitution, Article II, amended January 1994)</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ff"/>
                </a:solidFill>
                <a:latin typeface="Arial"/>
              </a:rPr>
              <a:t>Miss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s of the Society shall be scientific and educational, directed toward the advancement of the theory and practice of its field of interest as defined in Article II (of the Constitution).  Its purpose is also professional, directed toward the advancement of the standing of its members.   Furthermore, it shall work with other IEEE entities to fulfill the broader purposed of the IEEE.</a:t>
            </a:r>
            <a:endParaRPr b="0" lang="en-US" sz="20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Processing Society Constitution, Article 1, Section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IEEE Signal Processing Societ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s signal processing through its publications and meeting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nferences: ICASSP &amp; ICIP</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ponsored Conferences: ICME &amp; ISB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Workshop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ety Pubs: 3 Transactions, Letters and SP Magazin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ponsored Pubs: TMM, TMI, TWC, TMC, ITS, Sensors J., MM Mag</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S Governance consists of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dent, Past President, President-Elect, VP Finance, Secretary, VP Awards &amp; Membership</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Director (Mercy Kowalczyk) – member of all Boards &amp; committees without vot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ard of Governors (BoG) and ExCo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erence Board (incl VP Conferenc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ations Board (incl VP Publicat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Directions Committee (10 TC Chairs + Pres - El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Role of BoG</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Polic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range and strategic plan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 bylaw change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BoG representatives-at-large are elected for 3-year terms (4 each y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om members are the Society Officers elected by the BoG plus the Executive Director (non-vo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xCom members are voting members of the Bo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at-large member of the BoG is elected to the ExCom, any unexpired portion of their term is filled by an unsuccessful at-large BoG candi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Role of ExCom</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le for all operations of the Socie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to Bo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owered to act on BoG’s behalf pending subsequent approval of action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 Executive Director and All Society Officers: </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dent (Rich Cox)</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resident (Panos Papamichali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dent-Elect (Fred Mintzer)</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 Conferences (Rabab Ward)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 Publications (Arye Nehorai)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 Awards &amp; Membership (Rama Chellappa)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 Finance (V. John Mathew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retary (A. Lee Swindlehur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02:36:44Z</dcterms:created>
  <dc:creator>rvc</dc:creator>
  <dc:description/>
  <dc:language>en-US</dc:language>
  <cp:lastModifiedBy>rvc</cp:lastModifiedBy>
  <dcterms:modified xsi:type="dcterms:W3CDTF">2003-09-08T17:43:24Z</dcterms:modified>
  <cp:revision>7</cp:revision>
  <dc:subject/>
  <dc:title>How to Get Involved with the Signal Processing Socie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45774651</vt:r8>
  </property>
  <property fmtid="{D5CDD505-2E9C-101B-9397-08002B2CF9AE}" pid="3" name="_AuthorEmail">
    <vt:lpwstr>rvc@research.att.com</vt:lpwstr>
  </property>
  <property fmtid="{D5CDD505-2E9C-101B-9397-08002B2CF9AE}" pid="4" name="_AuthorEmailDisplayName">
    <vt:lpwstr>Cox,Richard V (Rich)</vt:lpwstr>
  </property>
  <property fmtid="{D5CDD505-2E9C-101B-9397-08002B2CF9AE}" pid="5" name="_EmailSubject">
    <vt:lpwstr>R8 Chapter Chairs meeting + Program (fwd)</vt:lpwstr>
  </property>
</Properties>
</file>