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792504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22280"/>
            <a:ext cx="792504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754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22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22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255168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754280"/>
            <a:ext cx="255168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754280"/>
            <a:ext cx="255168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22280"/>
            <a:ext cx="255168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022280"/>
            <a:ext cx="255168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022280"/>
            <a:ext cx="255168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54280"/>
            <a:ext cx="79250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792504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38671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754280"/>
            <a:ext cx="38671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685800"/>
            <a:ext cx="7925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754280"/>
            <a:ext cx="38671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22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38671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754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22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754280"/>
            <a:ext cx="386712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22280"/>
            <a:ext cx="7925040" cy="20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6ff"/>
            </a:gs>
            <a:gs pos="50000">
              <a:srgbClr val="ffffff"/>
            </a:gs>
            <a:gs pos="100000">
              <a:srgbClr val="e7f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754280"/>
            <a:ext cx="792504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066160" y="5783400"/>
            <a:ext cx="1077840" cy="1074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784760" y="6586560"/>
            <a:ext cx="3587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ideo and Image Processing Labo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22280" y="6586560"/>
            <a:ext cx="1518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CF2D059-BC3B-4CD7-808C-B534CAFFC046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483240"/>
            <a:ext cx="216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ptember 13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6ff"/>
            </a:gs>
            <a:gs pos="50000">
              <a:srgbClr val="ffffff"/>
            </a:gs>
            <a:gs pos="100000">
              <a:srgbClr val="e7f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93640" y="487080"/>
            <a:ext cx="7925040" cy="124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ganizing a Large SP Confere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e You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ally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r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Want to Do Thi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05280" y="1824120"/>
            <a:ext cx="664308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ward J. D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due Univers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deo and Image Processing Laboratory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IP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ool of Electrical and Computer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artment of Biomedical Engine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ail: ace@ecn.purdue.e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ece.purdue.edu/~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6ff"/>
            </a:gs>
            <a:gs pos="50000">
              <a:srgbClr val="ffffff"/>
            </a:gs>
            <a:gs pos="100000">
              <a:srgbClr val="e7f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2320" y="32832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Do You Start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3520" y="2025720"/>
            <a:ext cx="792468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IP and ICAS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is the “next” conference availabl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time of the year is the conference offered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“normal” times usually must be kept so that ICIP and ICASSP are not too clo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 the Chair of the SP Conference Board - Rabab War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 putting together your Tea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al submitted to Conference Board (and IMDSP-TC for ICI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6ff"/>
            </a:gs>
            <a:gs pos="50000">
              <a:srgbClr val="ffffff"/>
            </a:gs>
            <a:gs pos="100000">
              <a:srgbClr val="e7f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CASS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792504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ASSP has “2 IN – 1 OUT” algorith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 proposal is submitted, it is advised that you have many discussions with Chair of Conference Boar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o attend Conference Board meeting at ICASSP or ICI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lk with previous ICASSP Chairs – you cannot change the way the conference is generally organiz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per review handled by TC Chai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t have conference manage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t have budget showing profi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6ff"/>
            </a:gs>
            <a:gs pos="50000">
              <a:srgbClr val="ffffff"/>
            </a:gs>
            <a:gs pos="100000">
              <a:srgbClr val="e7f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7920" y="40464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CI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792504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 is slightly differ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 submitting proposal to Conference Board you must first submit proposal to IMDSP-TC, they must first approv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756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Chair(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least one of the Technical Co-Chairs must be a member or former member of the T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756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for Pap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756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of Reviewers and the review proc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uld meet with Chair of TC before putting together propos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C approves the “technical” content of your proposal then you submit the proposal to the Conference Boar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6ff"/>
            </a:gs>
            <a:gs pos="50000">
              <a:srgbClr val="ffffff"/>
            </a:gs>
            <a:gs pos="100000">
              <a:srgbClr val="e7f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ord Abou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ference Manage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792504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lk with Chairs of previous ICIP and ICASSP meetings before you chose the conference management compan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e that the conference management company has done meetings identical to ICIP or ICAS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tempt to handle the paper submission and review process yourself – use a professional compan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6ff"/>
            </a:gs>
            <a:gs pos="50000">
              <a:srgbClr val="ffffff"/>
            </a:gs>
            <a:gs pos="100000">
              <a:srgbClr val="e7f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dge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792504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should talk with Conference Board about th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previous Chairs for copies of their budge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udget must show a profi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need to project costs into the fu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Audi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6ff"/>
            </a:gs>
            <a:gs pos="50000">
              <a:srgbClr val="ffffff"/>
            </a:gs>
            <a:gs pos="100000">
              <a:srgbClr val="e7f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 Iss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54280"/>
            <a:ext cx="792504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careful with local sponsorship particularly from compan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is very sensitive about the use of it’s name and logo – it cannot appear that IEEE is endorsing a compan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erence Proceedings – CD and hardcop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 Not Underestimate How Much Time This Will Take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2:28:28Z</dcterms:created>
  <dc:creator>wolfgang</dc:creator>
  <dc:description/>
  <dc:language>en-US</dc:language>
  <cp:lastModifiedBy>Edward Delp</cp:lastModifiedBy>
  <cp:lastPrinted>1997-05-14T17:47:30Z</cp:lastPrinted>
  <dcterms:modified xsi:type="dcterms:W3CDTF">2003-09-13T11:35:24Z</dcterms:modified>
  <cp:revision>579</cp:revision>
  <dc:subject/>
  <dc:title>Image and Video Compression </dc:title>
</cp:coreProperties>
</file>